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E15-24D3-4586-8A5B-0EE6B521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189-D0CA-4A3E-B723-7204CDE8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3C8-5913-4DC0-B127-90EE6017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77D-CC9F-45F9-90F6-B31D3525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F91C-088C-4867-8BFF-0DB6C08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150-9B8C-4E49-9980-24D60D0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2CA9-FABA-4317-AD17-60D07B6A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582B-A139-400E-BB94-2ED11FC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AE9-3AAA-4E24-81F4-861E50B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B3F5-2390-4F6B-B59F-62E3751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8581-8E46-43B2-B94C-657593DC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8C6-8D18-495A-A485-11D9164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4DED-8F29-4FC5-A3C0-C787AF1D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F6A-8DAD-4150-AE34-3A433F1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FE8B-4884-45C1-99DC-8F35688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CC8-1F21-4394-9643-C24EF143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FCBA-DD36-4A75-ACFA-16ACA6A3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F38-9D85-44AD-8FC0-8D201373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C6C-7AB3-4E1A-982B-239D47B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4CC-88EA-4376-9DC0-7C5EAB3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AB8-BABE-4E27-8344-EF62B68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AC-8CA3-4C28-9AA6-95EC201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9E0-A4C2-4468-B5E5-A94A440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656-7A71-40FD-BB11-1E021DE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6F76-9E5F-4814-B45C-CBDC21CF8C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0E0-310D-409A-87BB-3A71E0EAF3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THE REFLEXIVE VERBS…</a:t>
            </a:r>
            <a:br>
              <a:rPr sz="54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(verbes pronominaux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GARDES ENCORE UNE FOI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      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/ Elle / On        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47640" y="1700280"/>
            <a:ext cx="51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47640" y="3357720"/>
            <a:ext cx="4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76720" y="5084640"/>
            <a:ext cx="42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ke up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gets wash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up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rushes one’s teeth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rosse les d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TR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ÈS FACILE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 peu plus difficile mainten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ardes encore une f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  réveill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        réve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195640" y="170028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U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24000" y="3357720"/>
            <a:ext cx="9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U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19280" y="5084640"/>
            <a:ext cx="428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5724360" y="2276640"/>
            <a:ext cx="3021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l est 7h1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                   lev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            dou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s parents       la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rbara et Mélodie           hab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 hab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douch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 moi? Je        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ève aus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2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l est 7h1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ev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ou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s parent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a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rbara et Mélodi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b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b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ouch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 moi? J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ève aus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NC,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     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E / M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    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E / T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/ ELLE / ON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E / 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/ ELLES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E / S’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1989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2637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321300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4000" y="378936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24000" y="436572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941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979640" y="333360"/>
            <a:ext cx="5256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CILE ,  NO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’EST-CE QUE C’EST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229392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CILE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CONNAIS 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JÀ UN EXEMP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’appeler = Je </a:t>
            </a: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’appel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’autres verb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cou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l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brosser les 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Je </a:t>
            </a:r>
            <a:r>
              <a:rPr b="0" lang="en-GB" sz="3200" spc="-1" strike="noStrike">
                <a:solidFill>
                  <a:srgbClr val="ff3300"/>
                </a:solidFill>
                <a:latin typeface="Berlin Sans FB Demi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 cou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Je </a:t>
            </a:r>
            <a:r>
              <a:rPr b="0" lang="en-GB" sz="3200" spc="-1" strike="noStrike">
                <a:solidFill>
                  <a:srgbClr val="ff3300"/>
                </a:solidFill>
                <a:latin typeface="Berlin Sans FB Demi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 l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è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Je </a:t>
            </a:r>
            <a:r>
              <a:rPr b="0" lang="en-US" sz="3200" spc="-1" strike="noStrike">
                <a:solidFill>
                  <a:srgbClr val="ff3300"/>
                </a:solidFill>
                <a:latin typeface="Berlin Sans FB Demi"/>
                <a:ea typeface="Arial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 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Je </a:t>
            </a:r>
            <a:r>
              <a:rPr b="0" lang="en-US" sz="3200" spc="-1" strike="noStrike">
                <a:solidFill>
                  <a:srgbClr val="ff3300"/>
                </a:solidFill>
                <a:latin typeface="Berlin Sans FB Demi"/>
                <a:ea typeface="Arial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 brosse 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  <a:ea typeface="Arial"/>
              </a:rPr>
              <a:t>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87280" y="5734080"/>
            <a:ext cx="122400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081080" cy="136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ccecff"/>
                </a:solidFill>
                <a:latin typeface="Arial"/>
              </a:rPr>
              <a:t>Donc, avec “JE”, on utilise  “ ME / M’ ”: je </a:t>
            </a:r>
            <a:r>
              <a:rPr b="0" i="1" lang="en-GB" sz="4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i="1" lang="en-GB" sz="4800" spc="-1" strike="noStrike">
                <a:solidFill>
                  <a:srgbClr val="ccecff"/>
                </a:solidFill>
                <a:latin typeface="Arial"/>
              </a:rPr>
              <a:t> réveil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T AVE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 / ELLE /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S / 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924280"/>
            <a:ext cx="2087280" cy="3529080"/>
          </a:xfrm>
          <a:prstGeom prst="rect">
            <a:avLst/>
          </a:prstGeom>
          <a:ln w="0">
            <a:noFill/>
          </a:ln>
        </p:spPr>
      </p:pic>
    </p:spTree>
  </p:cSld>
  <p:transition advTm="25000">
    <p:cover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24360" y="2706840"/>
            <a:ext cx="3168720" cy="3141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908000" y="404640"/>
            <a:ext cx="504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GARD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10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n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vou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s </a:t>
            </a: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éveil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248360" cy="54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835280" y="1484280"/>
            <a:ext cx="6265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N  T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5:05:47Z</dcterms:created>
  <dc:creator>sfon</dc:creator>
  <dc:description/>
  <dc:language>en-US</dc:language>
  <cp:lastModifiedBy>Teacher</cp:lastModifiedBy>
  <dcterms:modified xsi:type="dcterms:W3CDTF">2005-01-24T20:04:47Z</dcterms:modified>
  <cp:revision>3</cp:revision>
  <dc:subject/>
  <dc:title>THE REFLEXIVE VERBS…</dc:title>
</cp:coreProperties>
</file>